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855-0273-4B4D-AF75-CA89F366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F09-2C4F-4BF6-80E0-A22DAEF4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38C-B0F0-4842-BE3A-425E297B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6130-D1F8-4515-9741-AB2A315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7C7-381D-4EAB-A870-5BA37D2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954-BC40-4BBD-BD2A-60EB5B3A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4AB-01BE-47C4-89C2-78417240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05A-0FA8-4899-ACFC-5E7F8C4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0F6-4520-493B-A93F-48AEF44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31B-E759-48CE-9D12-84E89B4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EC2-038E-4389-834E-F6D29CAA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1D70-6E0F-4841-9EA0-A0FBAD8E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7995-6878-4139-8B8C-2991469A198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4A5-8948-454C-93DE-65B045A3B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gital Communication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M Encoding Ste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iz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M Decoding Ste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ample-and-Hold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as modulator in PCM system; information signal samp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ction field-effect transistor (JFE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oxide semiconductor field-effect transistor (MOSFE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ample-and-Hold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quisi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unt of time it takes for hold circuit to reach its final valu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ertur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S/H circuit must hold sampled volt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and Flat-top Samp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ural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ps of sampled waveform retain their natural shap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-top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 signal voltage held constant between sam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t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level corresponds to different binary numb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quantization level step-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Quantile or quantile interval; 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ermines resolution of digitiz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 Range/Signal-to-Noise Calc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 range (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 of maximum input or output voltage level to smallest voltage level quantized and/or reproduced by convert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-to-noise rati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S/N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-to-quantization-noise level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S/N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or nonuniform 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uantile interval step-size may vary in magnitu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le Channe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source of small amplitude that exists in channel independent of analog input signal and quantized by ADC conver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Compa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compression before transmission and expansion afte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ing and Analog-to-Digital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uantized value as binary wo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analog-to-digital (ADC) conver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-to-Analog Conver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-to-analog (DAC) 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nstruction of analog signal from PCM represent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igital (binary) bit stream to analo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Digital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communications to take place digitally, analog signals converted to discrete samples for transmission as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coded (prepared) for transmission over communications channel that does not provide direct electrical continuity between transmitter and receiv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ing Princip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ing an error depends on transmission system used and digital encoding and modulation techniques employ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mming d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between each defined state (minimum distanc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7-1: Error Detection and Correction Based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rror Detection and Correction Based o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11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tab07_01.jpg"/>
          <p:cNvPicPr/>
          <p:nvPr/>
        </p:nvPicPr>
        <p:blipFill>
          <a:blip r:embed="rId1"/>
          <a:stretch/>
        </p:blipFill>
        <p:spPr>
          <a:xfrm>
            <a:off x="228600" y="2306520"/>
            <a:ext cx="8686800" cy="22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ing Princip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OR operation that yields smallest result tells which is correct co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method of erro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(parity) bit added to each code re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request for retransmission (ARQ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of unused symbol for character with parity error (symbol substitu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ock Check Character (BC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of characters transmitted with no time gap between them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ed by end-of-message (EOM) indicator and then BC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redundancy check (LR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yclic Redundancy Check (CR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most powerful error-detection schemes; mathematical techni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C Code-Dividing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receive side, received code verified by feeding received serial CRC code into CRC dividing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mming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s that allow correction at receiver are forward error-correcting (FEC) co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fficient redundancy to allow error correction without further input from transmit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tect only single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ed–Solomon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ward error-correcting codes (FEC) like Hamming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tect multiple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lea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hnique used to rearrange data into nonlinear ordering scheme to improve chance of correcting data erro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Signal Processing (DS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 functions to control characteristics of digitiz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act information from processed signal, usually in presence of noi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in real time/nearly real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Signal Processing (DS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ily reprogrammed; more flex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ulates almost all communications system fun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P processing and filtering used in almost every area of electronic commun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Digital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ror detection/correction techniques deployed to enhance performance in presence of no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initely narrow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 that exhibit properties of sinc function (sin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/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 to which impulse applied at its input will output signal whose impulse response is equal to that of filter frequency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IR filter recur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 filter nonrecur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c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 digital sample value of input signal with number of previous input values (possibly previous output values) to generate output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orithms employing previous output values are recursive or itera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P techniques increasingly form heart of digital implementations of all ty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 only samples and let receiver reconstruct total signal with high degree of accurac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ying two or more information signals over single transmission chann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ime sharing; several users make use of computer simultaneous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Amplitude Modulation (P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amplitude made proportional to amplitude of modulatin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Width Modulation (PW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of PT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duration modulation (PDM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length modulation (PLM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s for class D power amplif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Position Modulation (PP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ior noise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use for PWM is to generate PP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oducing original analo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M signal converted to PWM, then demodulated using technique for demodulating PW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mple Rate and Nyquist Frequenc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 of sampling an analog waveform is form of modulation because of interaction that takes place between sampled pulses and information sign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mple Rate and Nyquist Frequenc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mple rate must be at least twice the highest frequency of intelligence or information signal to be samp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yquis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sample 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4:39Z</dcterms:modified>
  <cp:revision>5</cp:revision>
  <dc:subject/>
  <dc:title>Slide 1</dc:title>
</cp:coreProperties>
</file>